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52E-355A-4B23-8EE4-4160215D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9A2-728F-4946-9FBB-FE2F03A8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CD41-DDFE-42A0-9C2C-F388A363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929C-A9C4-4875-839B-C0B301F3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708B-C03B-4124-926B-0E926E01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501B-A743-4AE8-863B-9C25190F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40DE-C7D5-4BC8-A319-03592310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52B3-2202-4162-8FD7-78CD3772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4189-6DD8-453B-A6CF-C787B000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C620-85CD-43AE-AA99-49A5CD03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2776-0E46-4A8C-83F7-D7BDD1E4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56B-7091-4A5B-8A09-91BBCD7C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E8AE-962A-4E6D-A915-B065A26A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48A4-9C01-4328-80B0-739EC1DE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6577-7CD2-44CF-8581-0F4EEAE9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F887-BDF4-41E4-831D-A9A48D7A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93A4-FF19-478F-9F52-9FD53156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BB04-BE2D-4E34-9F12-EED36597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344-01BE-4496-86EB-82AABDB9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311-90C3-4DF1-A8A2-74669FED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67C-B60A-440F-B4F9-B987A03F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F06F-ECF0-488D-9B94-D6578D94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D8BB-5026-4E9D-A3DD-5E84C6AD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323E-7EBE-4724-A17F-468CCA9F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4D0D-F69B-43ED-8648-3545F9995D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44A6-363B-4B1D-A357-D215A4099A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n The Plains of Moa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.22-3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ory of Bala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k, King of Moab, Wants Balaam To Curse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am Finds A Way To Entice Israel Into A Situation Where God Will Be Displeased With Israel And Justify His Desire To Curse Israel For Balak Without Seeming To Betray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hows Him That His Donkey Can See What He Refuses To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ey Ev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n of Ball-Peor – 25:1-18  Ritual For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sraelites slaughter the Midianites – 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cond Census – 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 of Inheritance For Zelophehad’s Daughters. 27,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SHUA: Successor to Moses – 27:12-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uben &amp; Gad Ask For Their Inheritance – 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ies of Refuge - 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23:17:50Z</dcterms:created>
  <dc:creator>Terry W. Benton</dc:creator>
  <dc:description/>
  <dc:language>en-US</dc:language>
  <cp:lastModifiedBy>Terry W. Benton</cp:lastModifiedBy>
  <dcterms:modified xsi:type="dcterms:W3CDTF">2004-12-08T04:48:44Z</dcterms:modified>
  <cp:revision>2</cp:revision>
  <dc:subject/>
  <dc:title>On The Plains of Moab</dc:title>
</cp:coreProperties>
</file>